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778-FEAF-47EF-8726-08156274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065-B0F3-49B7-AFFF-4FDCD58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AD4-9EDF-4474-A276-C29DA357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140-F0D1-4E88-B6B3-5AAC67D9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81B-CA3A-4206-921C-1955C164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9C0-2C3F-4BD5-8FC4-84FAE07E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F3E-C602-46F9-9326-C4B371F7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53E-89BC-4F09-BA15-7DE944FC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6E7-8B29-41DA-9B8A-E18B3ED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6B5-06F4-41DC-BECE-7C882A0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894-E23F-414B-804B-2BF2365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4D3-18AB-497F-877C-C6AB4C1B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EDC-2C31-4DE4-8BE2-B0FAE496B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5 Stále ešte Bož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trvá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ešte Bož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trvá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Otca náš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ni dosiaľ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veľkej priaz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svetu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voril nám sv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ruč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len žiari svet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 Božej v tmá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hltí svet n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epasť bezod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Boha sa strá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ysel živ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aš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ist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ieť s Kristom zisk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ez neho str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voril nám prístu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rónu v nebesi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 raz navždy str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ádu nad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n povedie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brán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tkni sa nás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vor duše z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ojím od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chybností m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om pravdy povz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e uká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tvoj ľud s t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eky žiť sme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9:53Z</dcterms:modified>
  <cp:revision>31</cp:revision>
  <dc:subject/>
  <dc:title>Je veľký náš Pán, on slávy je Kráľ Nech do všetkých strán  spev vrúcnych znie chvál.</dc:title>
</cp:coreProperties>
</file>